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E11-E8C0-4B4E-85EB-50402BD7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89F-7358-4D66-986A-E9E0940A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58A-C231-47C9-BF9A-3306221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5CB-181B-4ABF-9795-3A67C3D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C52-C6E2-47B8-9383-0346F45E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5DB-FF0C-4692-A1BE-093254CD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C3B-0ADD-416B-85F0-511F09FD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EC4-E0AF-44B4-B2E4-D5B368B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20C-E1AC-4B38-A230-F6AE4F9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8BA-6E5A-4572-B01A-03837C7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DDD-30F7-45D1-BCE4-CE75B5B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A8F-6ECD-43C8-86D2-75DB538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F3D-C7D4-4EC6-9EE9-83C7883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1A8-F688-45CA-B12B-B293873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B7B5-35E4-4C97-BF73-3A2C4491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3_02"/>
          <p:cNvPicPr/>
          <p:nvPr/>
        </p:nvPicPr>
        <p:blipFill>
          <a:blip r:embed="rId1"/>
          <a:stretch/>
        </p:blipFill>
        <p:spPr>
          <a:xfrm>
            <a:off x="533520" y="642960"/>
            <a:ext cx="78483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3_03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humanc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3_04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3_05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unter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unter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humance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nomadic he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259056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n example of counter-urbaniz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ural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Urban to rural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uburban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Urban to sub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Rural to suburban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n example of counter-urbaniz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ural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) Urban to rural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uburban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Urban to sub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Rural to suburban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density in Egypt is where? Why t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6019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3_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11-04T16:30:41Z</dcterms:modified>
  <cp:revision>84</cp:revision>
  <dc:subject/>
  <dc:title>CRS Chapter 4</dc:title>
</cp:coreProperties>
</file>